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0036-93A8-4CF5-8F0A-FDAD55FE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8F3D-8E44-4EFA-BF9E-3DE95CD1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1096-AF59-478B-B035-99C96B30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86AF-3957-4CD6-9D73-9E83DE92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EA97-D466-4F6C-A53E-FE7B4335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448B-177B-4A34-89D2-26F7043E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9210-F37A-48D0-8286-170C174F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3B70-A8AB-4EED-B13B-E655608A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D6FC-7768-4816-9371-ACFF69BB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8EEC-0D58-4C5B-812C-3E93E8E4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0201-693A-454C-9381-0C7ADC1A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6DD-D091-4630-B6BB-E2640185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22C8-9D12-4B5C-AE66-81E8D93C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29F3-543E-446C-9669-01871752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34EC-F9C7-471D-A18B-A416DDF3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E0EA-DD2F-4506-8EC6-EE35E569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AE25-B3EB-42E2-B50A-AB781371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42D3-6D1D-488C-87A6-AB61D61A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C4B2-9C62-4BC9-BDD3-72A7F6CC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301B-5FC5-4BD8-972D-5EF8FE41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788-EE91-4B9A-8499-53C177F1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BAE7-F8CE-482D-8E7B-368C14DD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1D82-2FE4-48A7-81D1-1DA2EF66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63C7-498D-4058-96CD-44B5E9C1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38A7-5B79-401C-85FF-BBD493F077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2E00-77B7-4C5C-89B5-D921AA7CA8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merican Rev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rs. C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U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men’s Ro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d farms and businesses (A. Adam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olved politically by writing articles scornful of Loya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nteered as seamstresses, cooks, nurses, and even sp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stayed with men at army encampments (M. Washingt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fought on battle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gel of the Battlefield”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olly Pitche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H:\My Pictures\Molly Pitcher.gif"/>
          <p:cNvPicPr/>
          <p:nvPr/>
        </p:nvPicPr>
        <p:blipFill>
          <a:blip r:embed="rId1"/>
          <a:stretch/>
        </p:blipFill>
        <p:spPr>
          <a:xfrm>
            <a:off x="1676520" y="1981080"/>
            <a:ext cx="5064120" cy="35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yalists and Tor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ervative politically, supported Bri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ongest in the South/Weakest in the 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lican clergy, British offic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aves because their owners were Patriots, some fighting for promised free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ans because they feared American expa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“rode the fence” waiting to see who was going to win the w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nishing the Loyalis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riots passed a state treason act- prohibited writing or speaking out against the R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rived L. of their civil liberties, without 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b Violence- PA, NY, M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 Tory Ride- astride a metal fence po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r and Feath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r and Feath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6" descr="H:\My Pictures\tar and feathering.jpg"/>
          <p:cNvPicPr/>
          <p:nvPr/>
        </p:nvPicPr>
        <p:blipFill>
          <a:blip r:embed="rId1"/>
          <a:stretch/>
        </p:blipFill>
        <p:spPr>
          <a:xfrm>
            <a:off x="2895480" y="1371600"/>
            <a:ext cx="34466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nedict Arno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ly American h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me a spy for the Brit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me a British general after being discov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hated man of the R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6" descr="H:\My Pictures\benedict arnold sketch.jpg"/>
          <p:cNvPicPr/>
          <p:nvPr/>
        </p:nvPicPr>
        <p:blipFill>
          <a:blip r:embed="rId1"/>
          <a:stretch/>
        </p:blipFill>
        <p:spPr>
          <a:xfrm>
            <a:off x="4910040" y="1641600"/>
            <a:ext cx="328464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shington Crossing the Delawa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H:\My Pictures\Washington Crossing the Delaware.jpg"/>
          <p:cNvPicPr/>
          <p:nvPr/>
        </p:nvPicPr>
        <p:blipFill>
          <a:blip r:embed="rId1"/>
          <a:stretch/>
        </p:blipFill>
        <p:spPr>
          <a:xfrm>
            <a:off x="990720" y="1676520"/>
            <a:ext cx="730404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14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456840"/>
            <a:ext cx="3809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hington led a surprise counterattack against the Hessian troops in N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crossed the Delaware River on Christmas Night in 177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eated Hess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ove British back to NY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ed mor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H:\My Pictures\washingtondelaware2.jpg"/>
          <p:cNvPicPr/>
          <p:nvPr/>
        </p:nvPicPr>
        <p:blipFill>
          <a:blip r:embed="rId1"/>
          <a:stretch/>
        </p:blipFill>
        <p:spPr>
          <a:xfrm>
            <a:off x="4648320" y="1066680"/>
            <a:ext cx="3809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ttle at Sarago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ricans defeated British tro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d mor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d European nations (France) to realize that Americans might win the w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alley For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ental Army, under G. Washington spent a 6 mo. Encampment 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utally cold wi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few supplies and little f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mor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ter of ‘77- ‘7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Shot Heard Round the Wor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ge ordered men to capture American ammunition form a storehouse in Conc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ul Revere was sent to alert the militia  “The British Are Coming!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itia meets British troops in Lexington for the first confro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s spread, bringing more mili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anco- American All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 Franklin visited Paris to negotiate an alliance with the Fren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een as children having a temper tan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nce was nervous to support colonial revo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Saratoga- French became more interested in helping and recognized the United States as an independent 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nce declared war in June 177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hn Paul Jon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I have not yet begun to fight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tain of the Bonhomme Rich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val battle with the HMS Serap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eated the British after declaring infamous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ined Russian navy when American navy was diss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6" descr="H:\My Pictures\Bon Homme Richard.gif"/>
          <p:cNvPicPr/>
          <p:nvPr/>
        </p:nvPicPr>
        <p:blipFill>
          <a:blip r:embed="rId1"/>
          <a:stretch/>
        </p:blipFill>
        <p:spPr>
          <a:xfrm>
            <a:off x="4648320" y="2281320"/>
            <a:ext cx="380988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berty to Slaves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tish offered slaves freedom if they would fight on their behal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slaves deserted their masters and joined the Loya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riot forces began accepting African Americans, gave freedom in return for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er South did not accept slaves into militia for fear of rebell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ghting in the Sout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cious fighting destroys many Southern tow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d the South to support the Patrio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267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nwallis retreated to Yorktown to await reinforcements and supp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shington and Rochambeau (French) brought troops from NY to Yorktown in order to trap Cornwall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nch naval fleet sailed to the Chesapeake from the Caribb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nwallis was forced to surrender- October 178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rnwallis Surrender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ctober 19, 178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H:\My Pictures\surrender of Cornwallis.gif"/>
          <p:cNvPicPr/>
          <p:nvPr/>
        </p:nvPicPr>
        <p:blipFill>
          <a:blip r:embed="rId1"/>
          <a:stretch/>
        </p:blipFill>
        <p:spPr>
          <a:xfrm>
            <a:off x="2057400" y="2362320"/>
            <a:ext cx="54752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or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litia meet British troops on the bridge in Concord for their second confron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litia attacks killing several British sold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tish head back toward Boston, but are attacked at several points along the way by minute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tish realize their greatest obstacle is fighting an armed population who are defending their land and count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Continental Congres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y 10, 1775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13 colonies were pres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lved to create a “Continental Army” with G. Washington as the com. in chie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live Branch Petition-last appeal to the king, attempt to reconc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laration of the Causes and Necessities of Taking Up Arms- would rather die free than live as sl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ointed negotiators to keep the peace with the Ind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tt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conderoga- Ethan Allen led band of New Englanders to surprise attack the British- unauthorized att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ttle of Bunker Hill (Breed’s Hill)- Brits won with many casual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shington forced British out of Boston Har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ttle of Moore’s Creek Bridge- Rebels defeat Loya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600" spc="-1" strike="noStrike" baseline="30000">
                <a:solidFill>
                  <a:srgbClr val="ffff00"/>
                </a:solidFill>
                <a:latin typeface="Times New Roman"/>
              </a:rPr>
              <a:t>n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Continental Congress Reconvenes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ptember 1775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ded to build an American nav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contacts with foreign n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lared ports open to all nations- particularly France and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on Sense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pamphlet by Thomas Pa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guments in support of indepen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med King George III as a tyr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rtunity to “begin the world over agai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archy and aristocracy are outd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ed to reshape thought and public opinion- pushed the idea of independence to the front of everyone’s 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laration of Independ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ne 1776- Richard Henry Lee suggested dissolving political connection with Brit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ittee was formed to create a draft declaration of independence- writing of the draft fell to Thomas Jeffer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ly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voted in favor of indepen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ly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ngress approved an altered version of Jefferson’s d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merican Mora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factor in the outcome of the war was popular support for Americ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 with Patriot deser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riots made a point to make all Americans think about the Revolution and to choose sides- even the most apathe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3:36:57Z</dcterms:created>
  <dc:creator>acsb</dc:creator>
  <dc:description/>
  <dc:language>en-US</dc:language>
  <cp:lastModifiedBy>Melissa Carter</cp:lastModifiedBy>
  <dcterms:modified xsi:type="dcterms:W3CDTF">2011-10-03T01:08:47Z</dcterms:modified>
  <cp:revision>1</cp:revision>
  <dc:subject/>
  <dc:title>The American Revolution</dc:title>
</cp:coreProperties>
</file>